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2A4-38CB-4D80-A787-6B7661B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190-3AAD-4DF2-AEC4-4DA9048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63F-7D8E-448A-B97D-A3CA0CD4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AFF-61C1-4FFD-9516-0A6C76DE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2AFE-3E4C-4520-A191-A1302795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C9B0-C93F-4DC0-8F9C-A961A84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AAF7-A670-4FBC-B1BD-021D6B6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9FEE-619C-466E-82C1-11B250B1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268A-C397-4C3B-9138-F11D711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FC2-F971-4A80-B4DF-32DCB3A2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98C7-BF39-4978-A70F-6C61968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BC8-A239-463F-B294-5D74C37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76AE-2539-4311-BBE8-4A86061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266-653B-476D-BDC8-8E8FDE7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A2B-EF47-4824-BE66-923DBA22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2BE-DFA4-4587-BF1C-60B1CC73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0EED-FBDB-4BE4-B912-32277F9E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F0A-2D1A-4903-8CFB-FE59B6A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0F5-DDCD-4C29-BBC3-CE6574A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D63-0563-402B-8214-AF20487B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8F5-7E5A-4E2D-B016-01CB7234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608-675E-4ACF-9BD6-2B60961E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43C-8F0B-441E-B873-8367236B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949-4B1F-4B21-9551-CDBF7365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A9D-13F0-43B4-B187-5026C7AA24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9398-9E0B-4C4D-9A83-5AA173E69A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hQmaiuF6Z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jsay.com/" TargetMode="External"/><Relationship Id="rId2" Type="http://schemas.openxmlformats.org/officeDocument/2006/relationships/hyperlink" Target="http://www.howjsay.com/" TargetMode="External"/><Relationship Id="rId3" Type="http://schemas.openxmlformats.org/officeDocument/2006/relationships/hyperlink" Target="http://www.howjsay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1rrFh4OZw" TargetMode="External"/><Relationship Id="rId2" Type="http://schemas.openxmlformats.org/officeDocument/2006/relationships/hyperlink" Target="http://www.youtube.com/watch?v=WX1rrFh4OZw" TargetMode="External"/><Relationship Id="rId3" Type="http://schemas.openxmlformats.org/officeDocument/2006/relationships/hyperlink" Target="http://www.youtube.com/watch?v=WX1rrFh4OZw" TargetMode="External"/><Relationship Id="rId4" Type="http://schemas.openxmlformats.org/officeDocument/2006/relationships/hyperlink" Target="http://www.youtube.com/watch?v=WX1rrFh4OZw" TargetMode="External"/><Relationship Id="rId5" Type="http://schemas.openxmlformats.org/officeDocument/2006/relationships/hyperlink" Target="http://www.youtube.com/watch?v=WX1rrFh4OZw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internet.com/~ted.power/l1greek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9900"/>
                </a:solidFill>
                <a:latin typeface="Arial"/>
              </a:rPr>
              <a:t>Language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Grammar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peaking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Writing  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Pronunc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ord / Sentence Into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Word into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Intonation pattern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http://www.youtube.com/watch?v=E5vjwPI_Gx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2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octor; guitar / shampo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Manager, Jonath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Computer, food words:banana, tomato, po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4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conomy (never at the beni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esson 3b - Rhythm through Rhymes - English Pronun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youtube.com/watch?v=Jzc29ktRf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English Pronunciation - Which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Learn English Pronunciation Rochester New York Ac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youtube.com/watch?v=B7JtZOQ-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onunciation through Tongue Tw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Learn English with Tongue Twis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http://www.youtube.com/watch?v=6hQmaiuF6ZA&amp;NR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youtube.com/watch?v=6hQmaiuF6ZA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UGoEigo English Sounds Lesson 4: Tongue Twister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youtube.com/watch?v=hTM6DlqVte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L Playho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l4kids.net/phonics.htmlPlayhou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s activities and resources for making Phonics fun for your stud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manythings.org/e/pronunci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manythings.org/pp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Fo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fonetiks.org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nim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ttp://www.shiporsheep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.com : English as 2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Pronunciation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esl.about.com/library/weekly/aa100500a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rong-chang.com/pronu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nglishclub.com/pronunci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nds of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oundsofenglish.org/pronunci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ouncing Dictionary with Instant Sound Free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howjsay.com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VICEdict presents English 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dict.com.hk/vlc/pronunciatio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glish Pronunciation!?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bertc.com/english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esson 6a - WORD STRESS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=WX1rrFh4OZ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nglish pronunciation - Don't leave off the final soun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LBF9VuJz2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2 - "TH" - English Pronunciation, voiced ‘th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1GOJ4eF5L94&amp;NR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5a - R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3PJ2jZlVf-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4a - L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KG0GwIDm2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nglish Pronunciation #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dIvfI5AI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9900"/>
                </a:solidFill>
                <a:latin typeface="Arial"/>
              </a:rPr>
              <a:t>L2 English Pronunciation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scuss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ow good should it b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29718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Develop English Pronunciation –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ntelligibility, spoken English reasonably easy to understand and not distract the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Serve communicative need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ncrease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evelop speech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760" y="29718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Specific English Teaching Case: Greek Cypriot learning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1: What are their common mistakes in English pronunc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2: What would / should you do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3: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9900"/>
                </a:solidFill>
                <a:latin typeface="Arial"/>
              </a:rPr>
              <a:t>Specific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esson 1a - "TH" - English Pronunciation, unvoiced ‘t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Wxzieu-W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nglish Pronunciation #126: the word ‘Misogynisti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dIvfI5AI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nglish Pronunciation Lesson 2 -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英語の発音第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2 Pay /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_HqVMzkbH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Minimal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hiporsheep.com/page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btinternet.com/~ted.power/l1greek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nglish sound-spell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 Skills - How to teach Children, Correct Sound - Spelling, English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en.articlesgratuits.com/language-skills-how-to-teach-children-correct-sound-spelling-english-skills-id1549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culatory Pho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staff.uni-marburg.de/~uffmann/phonetics.pd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8a - STRESS PATTERNS - English Pronunciation “Stress in Sentences and phra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Wbs5aoqFtV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8b - STRESS PATTERNS - English 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-toSnwSqqz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7086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arn English Rhy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DLOBq2WcIN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3 stro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e l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kes j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sanne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isn’t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nda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doesn’t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 like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ph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3a - Rhythm through Rhymes - English Pronun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http://www.youtube.com/watch?v=N86BsL3l5Z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21:42:13Z</dcterms:created>
  <dc:creator>Sofocleous</dc:creator>
  <dc:description/>
  <dc:language>en-US</dc:language>
  <cp:lastModifiedBy>Sofocleous</cp:lastModifiedBy>
  <dcterms:modified xsi:type="dcterms:W3CDTF">2008-11-02T09:26:01Z</dcterms:modified>
  <cp:revision>6</cp:revision>
  <dc:subject/>
  <dc:title>Teaching English Pronunciation </dc:title>
</cp:coreProperties>
</file>